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C4427-E9BE-4037-AF99-C0F2C6B0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B22A-DEFC-40E2-B8C5-A79341C4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29C8A-3A7F-4ADB-A0CA-D1B35AF45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1DA0D-115D-47F7-8BA0-E06FFE4E8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42679-F7FA-49B5-9182-726DB285D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FCA6B-98FD-48A5-B6AF-D18501753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F9EEB-4A2F-420C-A36E-063097F33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C27E7-A453-47AF-9876-77FE4629F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53334-7020-4138-97F1-6C6EC3D3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B73FB-C6D1-4DFF-8566-EB0308C78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0F24F-789A-4BFB-A68E-90199F74E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BC1F-A241-4C70-93CD-A5149520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36F5B-9AB2-4293-B1E8-324772FC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6D6A8-6BA7-41E7-919D-8352297A2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B7451-CD69-4062-A108-D8D10A30E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DAD46-959E-4B9F-A89D-95F240BCD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8B106-060E-4822-86C9-21449BC65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989559-9940-4933-8A03-1984D8253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65863-9C6D-464A-B952-8148B2DEF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28BF4-717F-4AC5-A8A4-0772ADD39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B5BEC-16CA-42D7-8951-68AB2FCE5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FFE15-4DA2-4AA6-8732-DC3FEEA6C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7C44-4D90-491E-91C5-75FD4EBF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7E910-E1CA-4D2A-8020-B114C85A2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0D1DB-40D7-4CB2-B26A-58BD48E43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81E63-DAB6-44FC-8B8D-DD4D38085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96637-8097-4734-A7CC-74564A857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5E865-1ADA-4B12-A1F4-588FD60AE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10EDA-761E-4F9C-A4ED-3960E0C8A3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683A5-D253-4984-A8C2-1C96AACE3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274D9F-3318-4443-9A77-877C0734B1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7721E-9915-4787-B8C4-B8A4B3FB2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986B9-3F5A-40B8-A325-192EA8F01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9D3B-F17E-443C-A3A1-F576DE2F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32CB7-B769-4D48-8E1B-44927C424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749C2-E95F-4FE1-ABF2-4934CFE1B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9C3DC-0240-45EE-A9B4-C502CA827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0B6F5-0495-4897-849D-E7D1991B1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589F0-6D2D-4233-9168-43F1B4F2C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C43DC-18B8-4AEF-8EF7-7CC5BDD81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9F62C-B1F9-431F-BCA5-D592EA7A7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07B06-9F7C-4D19-BBC3-B28C5A97D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D34AB-860F-4032-BFFF-AA74E33EB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05AC6-F5D8-4B5F-ABCC-E87C167614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E0E7-B506-4051-BE2E-3D49AFDE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8C270-615D-490F-8AC8-8822A5FAC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64BAE-2413-4C00-8C18-1DC2FDA7B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DA2A5-74F7-4472-A35F-7D77D7E55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95F9A-D2CB-4C04-8691-4F2A8F56B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FE311-C879-4B34-ADA9-3F28A8073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3539E-E4C7-4C06-AD80-A943942A7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F5590-8169-4C5A-9ADE-418E7263B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56461-E2AA-465C-97E1-9E66BCCF9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CDF6A-7FBC-405C-A9B5-A6C83483C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63B2C0-A741-479F-B570-C3F457764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0A8B-9F3C-421D-90AE-B02658F7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93A81-2A8C-49CE-B3EF-C73770CA3F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1B3E17-FD3E-4DBE-A2FA-41FE87F4DB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5F097-988B-4F48-B035-366B86C61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C8DA0-D3F6-463D-A4B0-198153C8BE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09A89-C936-4029-9320-4DCD96143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15062-00C0-4994-A2EE-9F8EA4BA82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579511-CD83-4806-9608-9505DDB93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31869-4FC5-495F-9D47-3E5300671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1BAF3-3531-47AB-9DF6-C8A66E118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795F6-8C75-4B04-8785-E7634B895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8C72-5A80-4BCD-9AF8-63285863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38538-DD37-4EC3-BAC0-E35859A38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04D7AA-E2CE-466D-BB97-CDF6C8A73B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CCE5B2-7D8F-475A-895C-37BE811FA0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0759FE-D42D-4FBA-B9A5-E1338AB11D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C9441-EAEB-43D1-AC5C-9DB63584A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459AB-2009-4195-9658-675370B0B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455D42-B5D4-48A4-A6F9-13207DD10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83814A-A01C-4487-96A3-766CD6D517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88C1E-A3BB-4902-8788-AC3E9A1D9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A88BA-EB7D-4627-9E25-20636BE7F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1621-F6FD-4E3B-B540-3CDBB7D2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484E2-3357-4168-BEA8-C681D91F4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EB46F-9B0C-40D9-A791-15F219243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CD6E92-F251-44B2-B675-F59391CBB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86AFC4-C105-42F4-8375-782671F2F8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C5659E-3AED-4D1B-86AF-76033B7E7F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1B7785-E973-4293-9E59-0EF7A193E4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20F29-F8A0-4249-9054-9CCE1AFE3B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99AE6-5298-4BE8-B487-A88806C65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D6F69-1670-493D-BC08-1A38F1A70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047E5-E727-4B76-B901-3D9EEF658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297D-0D3B-44ED-AC92-2D303B76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92754-5474-4590-BED3-A88CDAA91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A1FDB-3F3B-464E-8B4B-060C12F73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22F59-0398-4B42-A6EE-976CD5DF3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A79EE-159C-419C-80B3-3603BC17B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677CD-2851-48C0-A603-63E26DDBD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44839-1A11-4DBD-A39E-9F240294E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1ECADE-9793-400A-9070-0B1F142633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6610-2849-44EA-AE35-AA8877B2A9C5}"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ângulo retângulo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upo 15"/>
          <p:cNvGrpSpPr/>
          <p:nvPr/>
        </p:nvGrpSpPr>
        <p:grpSpPr>
          <a:xfrm>
            <a:off x="-3240" y="4952880"/>
            <a:ext cx="9147240" cy="1911600"/>
            <a:chOff x="-3240" y="4952880"/>
            <a:chExt cx="9147240" cy="1911600"/>
          </a:xfrm>
        </p:grpSpPr>
        <p:sp>
          <p:nvSpPr>
            <p:cNvPr id="49" name="Forma livre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orma livre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orma livre 19"/>
            <p:cNvGrpSpPr/>
            <p:nvPr/>
          </p:nvGrpSpPr>
          <p:grpSpPr>
            <a:xfrm>
              <a:off x="2520" y="4992120"/>
              <a:ext cx="9141480" cy="1872360"/>
              <a:chOff x="2520" y="4992120"/>
              <a:chExt cx="9141480" cy="1872360"/>
            </a:xfrm>
          </p:grpSpPr>
          <p:pic>
            <p:nvPicPr>
              <p:cNvPr id="52" name="Forma livre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Conector reto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0AE5-09EF-43F3-8239-8EA3910726A9}" type="slidenum">
              <a:rPr b="0" lang="pt-B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Triângulo retângulo 13"/>
          <p:cNvGrpSpPr/>
          <p:nvPr/>
        </p:nvGrpSpPr>
        <p:grpSpPr>
          <a:xfrm>
            <a:off x="-12600" y="5784840"/>
            <a:ext cx="3414600" cy="1092240"/>
            <a:chOff x="-12600" y="5784840"/>
            <a:chExt cx="3414600" cy="1092240"/>
          </a:xfrm>
        </p:grpSpPr>
        <p:pic>
          <p:nvPicPr>
            <p:cNvPr id="99" name="Triângulo retângulo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Conector reto 14" descr=""/>
          <p:cNvPicPr/>
          <p:nvPr/>
        </p:nvPicPr>
        <p:blipFill>
          <a:blip r:embed="rId4"/>
          <a:stretch/>
        </p:blipFill>
        <p:spPr>
          <a:xfrm>
            <a:off x="-19080" y="5772240"/>
            <a:ext cx="3421080" cy="1109520"/>
          </a:xfrm>
          <a:prstGeom prst="rect">
            <a:avLst/>
          </a:prstGeom>
          <a:ln w="0">
            <a:noFill/>
          </a:ln>
        </p:spPr>
      </p:pic>
      <p:sp>
        <p:nvSpPr>
          <p:cNvPr id="102" name="Divisa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ivisa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07EC-A1A5-4573-960B-8F901460582B}"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Triângulo retângulo 13"/>
          <p:cNvGrpSpPr/>
          <p:nvPr/>
        </p:nvGrpSpPr>
        <p:grpSpPr>
          <a:xfrm>
            <a:off x="-12600" y="5784840"/>
            <a:ext cx="3414600" cy="1092240"/>
            <a:chOff x="-12600" y="5784840"/>
            <a:chExt cx="3414600" cy="1092240"/>
          </a:xfrm>
        </p:grpSpPr>
        <p:pic>
          <p:nvPicPr>
            <p:cNvPr id="148" name="Triângulo retângulo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Conector reto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F801-6EEA-4EA0-AA5C-5461BF2EADF3}"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3408-764F-49E5-94CA-11E78F80483D}"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Triângulo retângulo 13"/>
          <p:cNvGrpSpPr/>
          <p:nvPr/>
        </p:nvGrpSpPr>
        <p:grpSpPr>
          <a:xfrm>
            <a:off x="-12600" y="5784840"/>
            <a:ext cx="3414600" cy="1092240"/>
            <a:chOff x="-12600" y="5784840"/>
            <a:chExt cx="3414600" cy="1092240"/>
          </a:xfrm>
        </p:grpSpPr>
        <p:pic>
          <p:nvPicPr>
            <p:cNvPr id="236" name="Triângulo retângulo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Conector reto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312C-10E6-4120-8C03-A1952BB986E2}"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CDE9-58F0-4A0E-AF1A-FCA4E38D597F}"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a livre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orma livre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Triângulo retângulo 16"/>
          <p:cNvGrpSpPr/>
          <p:nvPr/>
        </p:nvGrpSpPr>
        <p:grpSpPr>
          <a:xfrm>
            <a:off x="-12600" y="5784840"/>
            <a:ext cx="3414600" cy="1092240"/>
            <a:chOff x="-12600" y="5784840"/>
            <a:chExt cx="3414600" cy="1092240"/>
          </a:xfrm>
        </p:grpSpPr>
        <p:pic>
          <p:nvPicPr>
            <p:cNvPr id="324" name="Triângulo retângulo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Conector reto 18" descr=""/>
          <p:cNvPicPr/>
          <p:nvPr/>
        </p:nvPicPr>
        <p:blipFill>
          <a:blip r:embed="rId4"/>
          <a:stretch/>
        </p:blipFill>
        <p:spPr>
          <a:xfrm>
            <a:off x="-19080" y="5772240"/>
            <a:ext cx="3421080" cy="1109520"/>
          </a:xfrm>
          <a:prstGeom prst="rect">
            <a:avLst/>
          </a:prstGeom>
          <a:ln w="0">
            <a:noFill/>
          </a:ln>
        </p:spPr>
      </p:pic>
      <p:sp>
        <p:nvSpPr>
          <p:cNvPr id="327" name="Divisa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ivisa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FEFC-351E-4CFA-A859-C587CD472BDB}" type="slidenum">
              <a:rPr b="0" lang="pt-B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
          <p:cNvPicPr/>
          <p:nvPr/>
        </p:nvPicPr>
        <p:blipFill>
          <a:blip r:embed="rId1"/>
          <a:stretch/>
        </p:blipFill>
        <p:spPr>
          <a:xfrm>
            <a:off x="5580000" y="1727280"/>
            <a:ext cx="3575160" cy="3357360"/>
          </a:xfrm>
          <a:prstGeom prst="rect">
            <a:avLst/>
          </a:prstGeom>
          <a:ln w="0">
            <a:noFill/>
          </a:ln>
        </p:spPr>
      </p:pic>
      <p:pic>
        <p:nvPicPr>
          <p:cNvPr id="371" name="Título 1" descr=""/>
          <p:cNvPicPr/>
          <p:nvPr/>
        </p:nvPicPr>
        <p:blipFill>
          <a:blip r:embed="rId2"/>
          <a:stretch/>
        </p:blipFill>
        <p:spPr>
          <a:xfrm>
            <a:off x="146160" y="542880"/>
            <a:ext cx="8534160" cy="1839960"/>
          </a:xfrm>
          <a:prstGeom prst="rect">
            <a:avLst/>
          </a:prstGeom>
          <a:ln w="0">
            <a:noFill/>
          </a:ln>
        </p:spPr>
      </p:pic>
      <p:sp>
        <p:nvSpPr>
          <p:cNvPr id="372" name="Espaço Reservado para Conteúdo 2"/>
          <p:cNvSpPr/>
          <p:nvPr/>
        </p:nvSpPr>
        <p:spPr>
          <a:xfrm>
            <a:off x="457200" y="3065400"/>
            <a:ext cx="4546440" cy="1803600"/>
          </a:xfrm>
          <a:prstGeom prst="rect">
            <a:avLst/>
          </a:prstGeom>
          <a:noFill/>
          <a:ln w="0">
            <a:noFill/>
          </a:ln>
        </p:spPr>
        <p:style>
          <a:lnRef idx="0"/>
          <a:fillRef idx="0"/>
          <a:effectRef idx="0"/>
          <a:fontRef idx="minor"/>
        </p:style>
        <p:txBody>
          <a:bodyPr lIns="45720" rIns="45720" tIns="46800" bIns="46800" anchor="t">
            <a:no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ábio Inácio Parra - RA 15648-9</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lipe Gustavo Campos - RA 15649-7</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Everton Mariano Bezerra - RA 1148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Daiane S Favaron Fonseca - RA 1564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rnando Thomé Blassi - RA 14187-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1"/>
                                        </p:tgtEl>
                                        <p:attrNameLst>
                                          <p:attrName>style.visibility</p:attrName>
                                        </p:attrNameLst>
                                      </p:cBhvr>
                                      <p:to>
                                        <p:strVal val="visible"/>
                                      </p:to>
                                    </p:set>
                                    <p:animEffect filter="wipe(down)" transition="in">
                                      <p:cBhvr additive="repl">
                                        <p:cTn id="7" dur="3000"/>
                                        <p:tgtEl>
                                          <p:spTgt spid="371"/>
                                        </p:tgtEl>
                                      </p:cBhvr>
                                    </p:animEffect>
                                  </p:childTnLst>
                                </p:cTn>
                              </p:par>
                              <p:par>
                                <p:cTn id="8" nodeType="withEffect" fill="hold" presetClass="entr" presetID="14" presetSubtype="10">
                                  <p:stCondLst>
                                    <p:cond delay="0"/>
                                  </p:stCondLst>
                                  <p:childTnLst>
                                    <p:set>
                                      <p:cBhvr>
                                        <p:cTn id="9" dur="1" fill="hold">
                                          <p:stCondLst>
                                            <p:cond delay="0"/>
                                          </p:stCondLst>
                                        </p:cTn>
                                        <p:tgtEl>
                                          <p:spTgt spid="370"/>
                                        </p:tgtEl>
                                        <p:attrNameLst>
                                          <p:attrName>style.visibility</p:attrName>
                                        </p:attrNameLst>
                                      </p:cBhvr>
                                      <p:to>
                                        <p:strVal val="visible"/>
                                      </p:to>
                                    </p:set>
                                    <p:animEffect filter="randombar(horizontal)" transition="in">
                                      <p:cBhvr additive="repl">
                                        <p:cTn id="10" dur="2000"/>
                                        <p:tgtEl>
                                          <p:spTgt spid="370"/>
                                        </p:tgtEl>
                                      </p:cBhvr>
                                    </p:animEffect>
                                  </p:childTnLst>
                                </p:cTn>
                              </p:par>
                              <p:par>
                                <p:cTn id="11" nodeType="withEffect" fill="hold" presetClass="entr" presetID="2" presetSubtype="8">
                                  <p:stCondLst>
                                    <p:cond delay="500"/>
                                  </p:stCondLst>
                                  <p:childTnLst>
                                    <p:set>
                                      <p:cBhvr>
                                        <p:cTn id="12" dur="1" fill="hold">
                                          <p:stCondLst>
                                            <p:cond delay="0"/>
                                          </p:stCondLst>
                                        </p:cTn>
                                        <p:tgtEl>
                                          <p:spTgt spid="372"/>
                                        </p:tgtEl>
                                        <p:attrNameLst>
                                          <p:attrName>style.visibility</p:attrName>
                                        </p:attrNameLst>
                                      </p:cBhvr>
                                      <p:to>
                                        <p:strVal val="visible"/>
                                      </p:to>
                                    </p:set>
                                    <p:anim calcmode="lin" valueType="num">
                                      <p:cBhvr additive="base">
                                        <p:cTn id="13" dur="2000" fill="hold"/>
                                        <p:tgtEl>
                                          <p:spTgt spid="372"/>
                                        </p:tgtEl>
                                        <p:attrNameLst>
                                          <p:attrName>ppt_x</p:attrName>
                                        </p:attrNameLst>
                                      </p:cBhvr>
                                      <p:tavLst>
                                        <p:tav tm="0">
                                          <p:val>
                                            <p:strVal val="0-#ppt_w/2"/>
                                          </p:val>
                                        </p:tav>
                                        <p:tav tm="100000">
                                          <p:val>
                                            <p:strVal val="#ppt_x"/>
                                          </p:val>
                                        </p:tav>
                                      </p:tavLst>
                                    </p:anim>
                                    <p:anim calcmode="lin" valueType="num">
                                      <p:cBhvr additive="base">
                                        <p:cTn id="14" dur="20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539640" y="549360"/>
            <a:ext cx="8229600" cy="5904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Nota d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Brandsclub é o mais completo clube privado de compras online. Proporcionando exclusivamente aos seus sócios oportunidades de compra das melhores marcas nacionais e internacionais com descontos de 90% em relação ao mercad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As promoções ocorrem por tempo limitado. Os produtos que comercializamos são novos, autênticos e adquiridos diretamente dos fabricantes ou distribuidores no Brasil e no mund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O ambiente de pagamento é totalmente protegido, seguro e ao mesmo tempo simples e ági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5376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anking site </a:t>
            </a:r>
            <a:r>
              <a:rPr b="1" lang="en-US" sz="2000" spc="-1" strike="noStrike" u="sng">
                <a:solidFill>
                  <a:srgbClr val="000000"/>
                </a:solidFill>
                <a:uFillTx/>
                <a:latin typeface="Lucida Sans Unicode"/>
              </a:rPr>
              <a:t>www.Confiômetro.com.b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encontramos apenas 36 opiniões por se tratar de um comércio relativamente novo no mercado brasileiro. Destas 35 são reclamações sendo elas 9 não foram respondidas pelo site. Dentre as 36 também não se inclui a nossa pois não fizemos reclamações no site, portanto acreditamos que o numero de reclamações entre pessoas que vão ao PROCON e que não vão sejam muito maio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mos também que as 9 reclamações não respondidas pela empresa 100% delas são reclamações de compradores que não receberam o produt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Nota dada pelos consumidores a empresa: 2,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Taxa de soluções: 7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Pessoas que voltariam a fazer negocio: 2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1" name="Imagem 3" descr="http://www.pontoxp.com/wp-content/uploads/2010/07/SITE-RECLAMACOES-DOS-CONSUMIDORES-CONFIOMETRO.jpg"/>
          <p:cNvPicPr/>
          <p:nvPr/>
        </p:nvPicPr>
        <p:blipFill>
          <a:blip r:embed="rId1"/>
          <a:stretch/>
        </p:blipFill>
        <p:spPr>
          <a:xfrm>
            <a:off x="-36360" y="33480"/>
            <a:ext cx="4762440" cy="130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404280"/>
            <a:ext cx="8229600" cy="57214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Lucida Sans Unicode"/>
              </a:rPr>
              <a:t>Experiências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ivemos experiências em site deste tipo e logo a primeira já não foi muito agradável.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or se tratar de um site que oferece vários descontos ao cliente com vários tipos de mercadorias, quando efetuamos compras de diferentes marcas, se esta marca não estiver disponível até a finalização do anuncio o cliente terá que aguardar o site ter o produto disponível para que assim toda a mercadoria seja enviada.</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ortanto se você quer fazer uma compra de alguma coisa urgente terá que compra-la separado, pagar frete separado e ainda aguardar em torno de 30 dias para receber o produto. Mas se você quer economizar no frete e receber tudo junto, como foi nossa experiência, poderá aguardar até 60 dias. Nestes 60 dias foram enumeras vezes que entramos em contato com o site para que fosse passado para nós o prazo de envio, porém nem o site sabia o prazo de envio do produt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6280"/>
            <a:ext cx="8229600" cy="5649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Logística</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ntre as 3 empresas, a BrandsClub sem sombra de dúvidas é a pior entre as empresas citadas em logística. Ela pode ser boa de preço porém em prazo de entrega e satisfação do cliente é péssim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la funciona com marcas do exterior, normalmente dos EUA, onde para que a BrandsClub envie a mercadoria é necessário que a mesma seja enviada para ela do exterior para o Brasil para que assim ela possa repassar para seus consumidores. Acreditamos que se fosse fechado um lote de produtos com desconto direto da fábrica e estes produtos fossem enviados para a BrandsClub para que assim ele disponibilizasse no seu site os descontos, somente esse caminho já economizaria um tempo de entrega de pelo menos 25 di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19120" y="14954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Característica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A Loja virtual Fator digital é uma empresa também de e-commerce que atua enviando produtos eletrônicos para todo Brasil. É uma das empresas com a pior logística também.</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Ranking no PROC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No ultimo dia 01/03/2012 o PROCON ordenou a retirada de todos os produtos da loja virtual Fator Digital devido ao altíssimo índice de reclamação no site do PROCON, porém como a empresa é nova no mercado digital, não foi divulgada uma lista com a posição de reclamaçõ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5" name="Imagem 3" descr=""/>
          <p:cNvPicPr/>
          <p:nvPr/>
        </p:nvPicPr>
        <p:blipFill>
          <a:blip r:embed="rId1"/>
          <a:stretch/>
        </p:blipFill>
        <p:spPr>
          <a:xfrm>
            <a:off x="2252520" y="189000"/>
            <a:ext cx="4911840" cy="106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Imagem 3" descr="http://www.pontoxp.com/wp-content/uploads/2010/07/SITE-RECLAMACOES-DOS-CONSUMIDORES-CONFIOMETRO.jpg"/>
          <p:cNvPicPr/>
          <p:nvPr/>
        </p:nvPicPr>
        <p:blipFill>
          <a:blip r:embed="rId1"/>
          <a:stretch/>
        </p:blipFill>
        <p:spPr>
          <a:xfrm>
            <a:off x="-36360" y="33480"/>
            <a:ext cx="4762440" cy="1307880"/>
          </a:xfrm>
          <a:prstGeom prst="rect">
            <a:avLst/>
          </a:prstGeom>
          <a:ln w="0">
            <a:noFill/>
          </a:ln>
        </p:spPr>
      </p:pic>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há mais de 1365 opiniões sobre a Fator Digital onde desses 1332 são reclamações e apenas 33 elogio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 tempo médio de resposta é de 79 dias e 16 horas para a solução do problema.</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axa de soluções 72%</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do consumidor: 2,70</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essoas que voltariam a comprar pelo site 32%</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ítulo 2" descr=""/>
          <p:cNvPicPr/>
          <p:nvPr/>
        </p:nvPicPr>
        <p:blipFill>
          <a:blip r:embed="rId1"/>
          <a:stretch/>
        </p:blipFill>
        <p:spPr>
          <a:xfrm>
            <a:off x="-6480" y="2693880"/>
            <a:ext cx="9156960" cy="234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2">
                                  <p:stCondLst>
                                    <p:cond delay="0"/>
                                  </p:stCondLst>
                                  <p:childTnLst>
                                    <p:set>
                                      <p:cBhvr>
                                        <p:cTn id="27" dur="1" fill="hold">
                                          <p:stCondLst>
                                            <p:cond delay="0"/>
                                          </p:stCondLst>
                                        </p:cTn>
                                        <p:tgtEl>
                                          <p:spTgt spid="398"/>
                                        </p:tgtEl>
                                        <p:attrNameLst>
                                          <p:attrName>style.visibility</p:attrName>
                                        </p:attrNameLst>
                                      </p:cBhvr>
                                      <p:to>
                                        <p:strVal val="visible"/>
                                      </p:to>
                                    </p:set>
                                    <p:anim calcmode="lin" valueType="num">
                                      <p:cBhvr additive="base">
                                        <p:cTn id="28" dur="2000" fill="hold"/>
                                        <p:tgtEl>
                                          <p:spTgt spid="398"/>
                                        </p:tgtEl>
                                        <p:attrNameLst>
                                          <p:attrName>ppt_x</p:attrName>
                                        </p:attrNameLst>
                                      </p:cBhvr>
                                      <p:tavLst>
                                        <p:tav tm="0">
                                          <p:val>
                                            <p:strVal val="1+#ppt_w/2"/>
                                          </p:val>
                                        </p:tav>
                                        <p:tav tm="100000">
                                          <p:val>
                                            <p:strVal val="#ppt_x"/>
                                          </p:val>
                                        </p:tav>
                                      </p:tavLst>
                                    </p:anim>
                                    <p:anim calcmode="lin" valueType="num">
                                      <p:cBhvr additive="base">
                                        <p:cTn id="29" dur="2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Imagem 3" descr="http://2.bp.blogspot.com/-E3SX57QciwY/T1ULsgk-4xI/AAAAAAAAAEI/8L4z_WHEZAA/s1600/Netshoes.jpg"/>
          <p:cNvPicPr/>
          <p:nvPr/>
        </p:nvPicPr>
        <p:blipFill>
          <a:blip r:embed="rId1"/>
          <a:stretch/>
        </p:blipFill>
        <p:spPr>
          <a:xfrm>
            <a:off x="-181080" y="-603360"/>
            <a:ext cx="5400720" cy="2594160"/>
          </a:xfrm>
          <a:prstGeom prst="rect">
            <a:avLst/>
          </a:prstGeom>
          <a:ln w="0">
            <a:noFill/>
          </a:ln>
        </p:spPr>
      </p:pic>
      <p:sp>
        <p:nvSpPr>
          <p:cNvPr id="400" name=""/>
          <p:cNvSpPr txBox="1"/>
          <p:nvPr/>
        </p:nvSpPr>
        <p:spPr>
          <a:xfrm>
            <a:off x="457200" y="1926720"/>
            <a:ext cx="8229600" cy="45262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A NetShoes é uma empresa de varejo de e-commerce. Esta empresa é conhecida pelo rápido encaminhamento e entrega de suas mercadorias. Ela possui um centro de distribuição dos correios dentro da própria empresa o que facilita é muito a distribuição dos produtos não tendo que passar pelo Centro de distribuição de Campinas, por exemplo, para vir para o interior. Ela movimenta cerca de 600 milhões de reais no ano de 2011 e já realizou mais de 10 milhões de entregas, possuindo mais de 20 mil itens em sua loja virtual.</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Lucida Sans Unicode"/>
              </a:rPr>
              <a:t>Classificação da Empres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Somos a Netshoes. Muito mais do que uma loja de artigos esportivos, somos uma empresa com DNA digital que hoje é a maior loja do gênero na América Lat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Trabalhamos 24 horas por dia, 7 dias por semana, para levar artigos de esporte e lazer para todos os cantos do País, porque acreditamos no poder transformador que o esporte tem na vida das pessoa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Durante nossa trajetória de 12 anos muita coisa mudou, menos o nosso objetivo: fazer o melhor e o mais inovador serviço de e-commerce de material esportivo e de lazer.</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As pessoas são o nosso foco e, por isso, somos sempre transparentes e diretos. Acreditamos que o comprometimento com as promessas feitas aos clientes é o que constrói nossa reputação.</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Para nós, não basta bater metas. É preciso quebrar record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3333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Lucida Sans Unicode"/>
              </a:rPr>
              <a:t>Ranking do PROC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Lucida Sans Unicode"/>
              </a:rPr>
              <a:t>A NetShoes orguilha-se de ter recebido apenas 31,5 mil reclamaçoes no PROCON em 2010 pois ela se entitula como uma empresa de Serviços e nao de Varejo. Este numero é realmente baixo para os padrões de uma empresa do nível del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ítulo 2" descr=""/>
          <p:cNvPicPr/>
          <p:nvPr/>
        </p:nvPicPr>
        <p:blipFill>
          <a:blip r:embed="rId1"/>
          <a:stretch/>
        </p:blipFill>
        <p:spPr>
          <a:xfrm>
            <a:off x="512640" y="2792520"/>
            <a:ext cx="8240760" cy="1822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4">
                                  <p:stCondLst>
                                    <p:cond delay="0"/>
                                  </p:stCondLst>
                                  <p:childTnLst>
                                    <p:set>
                                      <p:cBhvr>
                                        <p:cTn id="20" dur="1" fill="hold">
                                          <p:stCondLst>
                                            <p:cond delay="0"/>
                                          </p:stCondLst>
                                        </p:cTn>
                                        <p:tgtEl>
                                          <p:spTgt spid="373"/>
                                        </p:tgtEl>
                                        <p:attrNameLst>
                                          <p:attrName>style.visibility</p:attrName>
                                        </p:attrNameLst>
                                      </p:cBhvr>
                                      <p:to>
                                        <p:strVal val="visible"/>
                                      </p:to>
                                    </p:set>
                                    <p:animEffect filter="wipe(down)" transition="in">
                                      <p:cBhvr additive="repl">
                                        <p:cTn id="21"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 site uma das melhores empresas pontuadas, se não a melhor, é a NetShoes com 94 opiniões com 55 reclamações e 39 elogio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stas 55 reclamações o tempo médio para que ela respondesse é de 15H com 100% das reclamações solucionad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ta do Consumidor: 8,20</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Pessoas que voltariam a fazer negocios: 90%</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6" name="Imagem 3" descr="http://www.pontoxp.com/wp-content/uploads/2010/07/SITE-RECLAMACOES-DOS-CONSUMIDORES-CONFIOMETRO.jpg"/>
          <p:cNvPicPr/>
          <p:nvPr/>
        </p:nvPicPr>
        <p:blipFill>
          <a:blip r:embed="rId1"/>
          <a:stretch/>
        </p:blipFill>
        <p:spPr>
          <a:xfrm>
            <a:off x="25560" y="115920"/>
            <a:ext cx="4762440" cy="130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260280"/>
            <a:ext cx="8229600" cy="5865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Logística</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Muita gente se pergunta como uma empresa pode fazer entregas em tão pouco tempo como ela. Acontece que por tráz das entregas ela controla com uma lupa este serviço para que nao comprometa a imagem da empresa. Ela conta com 17 empresas de transportadoras cadastratas e trabalhando com ela. No momento da compra efetuada no site a NetShoes tem 2 horas para fazer a aprovação do pagamento e liberar o produto para que seja enviado. No início de 2010 foi instalado uma agência dos Correios em sua fábrica onde esta ocupa cerca de 18 mil metros quadrados garantindo assim o prazo de 48 horas estipulados a algumas regiões. Ela chega a despachar 2,5 milhoes de produtos por ano.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Imagem 3" descr="http://jralfa.com.br/public_html/wp-content/uploads/2011/06/fast-shop.gif"/>
          <p:cNvPicPr/>
          <p:nvPr/>
        </p:nvPicPr>
        <p:blipFill>
          <a:blip r:embed="rId1"/>
          <a:stretch/>
        </p:blipFill>
        <p:spPr>
          <a:xfrm>
            <a:off x="179280" y="85680"/>
            <a:ext cx="5434200" cy="1903320"/>
          </a:xfrm>
          <a:prstGeom prst="rect">
            <a:avLst/>
          </a:prstGeom>
          <a:ln w="0">
            <a:noFill/>
          </a:ln>
        </p:spPr>
      </p:pic>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mpresa de e-commerce que vende produtos esportivos, eletrodoméstico, eletronicos, informática, portáteis e telefonia, possui sede hoje em São Paulo, Belo Horizonte, Rio de Janeiro, Curitiba, Porto Alegre e Salvador. Atua nesse segmento de vendas virtuais desde 2000.</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Lucida Sans Unicode"/>
              </a:rPr>
              <a:t>Ranking PROC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Lucida Sans Unicode"/>
              </a:rPr>
              <a:t>A Fast Shop não aparece na lista das 50 empresas mais reclamadas do procon de 2010, tendo apenas 9 reclamações sendo elas 3 solucionadas e 6 nao solucionada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Espaço Reservado para Conteúdo 3" descr="http://www.pontoxp.com/wp-content/uploads/2010/07/SITE-RECLAMACOES-DOS-CONSUMIDORES-CONFIOMETRO.jpg"/>
          <p:cNvPicPr/>
          <p:nvPr/>
        </p:nvPicPr>
        <p:blipFill>
          <a:blip r:embed="rId1"/>
          <a:stretch/>
        </p:blipFill>
        <p:spPr>
          <a:xfrm>
            <a:off x="169920" y="189000"/>
            <a:ext cx="4762440" cy="1305000"/>
          </a:xfrm>
          <a:prstGeom prst="rect">
            <a:avLst/>
          </a:prstGeom>
          <a:ln w="0">
            <a:noFill/>
          </a:ln>
        </p:spPr>
      </p:pic>
      <p:sp>
        <p:nvSpPr>
          <p:cNvPr id="412" name="Espaço Reservado para Conteúd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 site a Fast Shop é solucionadora dos problemas dos compradores, entre as mais variadas reclamações o que mais se pontua quanto ao produto comprado vir com defe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as 194 opiniões 147 sao reclamações e 47 elog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stes 147, 98 foram respondidas aos clientes com uma taxa de solução de 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ta dada pelos consumidores: 5,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nsumidores que voltariam a fazer negócio 6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Logística</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Conta com uma rápida distribuição entregando sempre os produtos dentro do prazo estipulado no site. Como é uma mepresa que conta com os centros de distribuições em grandes capitais, dificilmente o produto é entrege depois do prazo.</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Imagem 3" descr="http://static.kabum.com.br/kabum3/imagem/top/logo.gif"/>
          <p:cNvPicPr/>
          <p:nvPr/>
        </p:nvPicPr>
        <p:blipFill>
          <a:blip r:embed="rId1"/>
          <a:stretch/>
        </p:blipFill>
        <p:spPr>
          <a:xfrm>
            <a:off x="324000" y="115920"/>
            <a:ext cx="5316480" cy="1255680"/>
          </a:xfrm>
          <a:prstGeom prst="rect">
            <a:avLst/>
          </a:prstGeom>
          <a:ln w="0">
            <a:noFill/>
          </a:ln>
        </p:spPr>
      </p:pic>
      <p:sp>
        <p:nvSpPr>
          <p:cNvPr id="415" name=""/>
          <p:cNvSpPr txBox="1"/>
          <p:nvPr/>
        </p:nvSpPr>
        <p:spPr>
          <a:xfrm>
            <a:off x="457200" y="17114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Fundado em 2003, o KaBuM! é um dos pioneiros no comércio eletrônico brasileiro e hoje está entre as maiores empresas deste mercado no país. Esta performance é resultado de uma empresa obcecada por agilidade, qualidade de atendimento, velocidade de entrega e respeito pelo consumidor. Prova disso, o KaBuM! possui todos os mais altos índices de avaliação e selos de qualidade existentes da internet no Brasil.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Medalha Diamante - Ebit: Avaliação máxima na mais respeitada consultoria de e-commerce da América Lat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Revista INFO Exame 2010: Eleito o 15º melhor e-commerce do Brasil. Considerando empresas apenas de comércio eletrônico, ficamos na 6ª colocação.</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Eleito em 2011 pela empresa de pesquisa e consultoria "CVA Solutions" o 10º melhor site de e-commerce do Brasi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Imagem 3" descr="http://www.pontoxp.com/wp-content/uploads/2010/07/SITE-RECLAMACOES-DOS-CONSUMIDORES-CONFIOMETRO.jpg"/>
          <p:cNvPicPr/>
          <p:nvPr/>
        </p:nvPicPr>
        <p:blipFill>
          <a:blip r:embed="rId1"/>
          <a:stretch/>
        </p:blipFill>
        <p:spPr>
          <a:xfrm>
            <a:off x="34920" y="1557360"/>
            <a:ext cx="4764240" cy="1308240"/>
          </a:xfrm>
          <a:prstGeom prst="rect">
            <a:avLst/>
          </a:prstGeom>
          <a:ln w="0">
            <a:noFill/>
          </a:ln>
        </p:spPr>
      </p:pic>
      <p:sp>
        <p:nvSpPr>
          <p:cNvPr id="417" name=""/>
          <p:cNvSpPr txBox="1"/>
          <p:nvPr/>
        </p:nvSpPr>
        <p:spPr>
          <a:xfrm>
            <a:off x="539640" y="404280"/>
            <a:ext cx="8229600" cy="5761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Ranking no Procon</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 Kabum também não aparece entre as 50 lojas mais reclamadas no site do Procon.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Com 342 opiniões a Kabum tem 267 reclamações com uma taxa de resposta de 99% e de soluções em 82%.</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Cerca de 62% dos clientes com problemas voltariam a comprar com a Kabum</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média em 4,7 as principais reclamações são de produtos defeituosos e troca de produto vendid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Logística</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Sua logística é ampla possuindo diversos centros de distribuições com mercadorias estrategicamente dispostas perto de vias de acesso rápido para garantir a entrega de mercadoria. É uma empresa que presta serviço para grupos como Microsoft, Bradesco, Itaú, Petrobrás, Exxon, Walt Disney, Ibope, Rede Globo, Volvo e vários órgãos do governo brasileiro. Tratando-se do Governo Brasileiro, eles não solicitar uma empresa que não cumpre prazos de entreg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ítulo 1" descr=""/>
          <p:cNvPicPr/>
          <p:nvPr/>
        </p:nvPicPr>
        <p:blipFill>
          <a:blip r:embed="rId1"/>
          <a:stretch/>
        </p:blipFill>
        <p:spPr>
          <a:xfrm>
            <a:off x="-237960" y="1365120"/>
            <a:ext cx="8931240" cy="1932120"/>
          </a:xfrm>
          <a:prstGeom prst="rect">
            <a:avLst/>
          </a:prstGeom>
          <a:ln w="0">
            <a:noFill/>
          </a:ln>
        </p:spPr>
      </p:pic>
      <p:sp>
        <p:nvSpPr>
          <p:cNvPr id="420" name="Espaço Reservado para Conteúdo 2"/>
          <p:cNvSpPr/>
          <p:nvPr/>
        </p:nvSpPr>
        <p:spPr>
          <a:xfrm>
            <a:off x="3276720" y="3933720"/>
            <a:ext cx="4546440" cy="1803600"/>
          </a:xfrm>
          <a:prstGeom prst="rect">
            <a:avLst/>
          </a:prstGeom>
          <a:noFill/>
          <a:ln w="0">
            <a:noFill/>
          </a:ln>
        </p:spPr>
        <p:style>
          <a:lnRef idx="0"/>
          <a:fillRef idx="0"/>
          <a:effectRef idx="0"/>
          <a:fontRef idx="minor"/>
        </p:style>
        <p:txBody>
          <a:bodyPr lIns="45720" rIns="45720" tIns="46800" bIns="46800" anchor="t">
            <a:no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ábio Inácio Parra - RA 15648-9</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lipe Gustavo Campos - RA 15649-7</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Everton Mariano Bezerra - RA 1148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Daiane S Favaron Fonseca - RA 1564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rnando Thomé Blassi - RA 14187-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 presetSubtype="8">
                                  <p:stCondLst>
                                    <p:cond delay="500"/>
                                  </p:stCondLst>
                                  <p:childTnLst>
                                    <p:set>
                                      <p:cBhvr>
                                        <p:cTn id="35" dur="1" fill="hold">
                                          <p:stCondLst>
                                            <p:cond delay="0"/>
                                          </p:stCondLst>
                                        </p:cTn>
                                        <p:tgtEl>
                                          <p:spTgt spid="420"/>
                                        </p:tgtEl>
                                        <p:attrNameLst>
                                          <p:attrName>style.visibility</p:attrName>
                                        </p:attrNameLst>
                                      </p:cBhvr>
                                      <p:to>
                                        <p:strVal val="visible"/>
                                      </p:to>
                                    </p:set>
                                    <p:anim calcmode="lin" valueType="num">
                                      <p:cBhvr additive="base">
                                        <p:cTn id="36" dur="2000" fill="hold"/>
                                        <p:tgtEl>
                                          <p:spTgt spid="420"/>
                                        </p:tgtEl>
                                        <p:attrNameLst>
                                          <p:attrName>ppt_x</p:attrName>
                                        </p:attrNameLst>
                                      </p:cBhvr>
                                      <p:tavLst>
                                        <p:tav tm="0">
                                          <p:val>
                                            <p:strVal val="0-#ppt_w/2"/>
                                          </p:val>
                                        </p:tav>
                                        <p:tav tm="100000">
                                          <p:val>
                                            <p:strVal val="#ppt_x"/>
                                          </p:val>
                                        </p:tav>
                                      </p:tavLst>
                                    </p:anim>
                                    <p:anim calcmode="lin" valueType="num">
                                      <p:cBhvr additive="base">
                                        <p:cTn id="37" dur="2000" fill="hold"/>
                                        <p:tgtEl>
                                          <p:spTgt spid="420"/>
                                        </p:tgtEl>
                                        <p:attrNameLst>
                                          <p:attrName>ppt_y</p:attrName>
                                        </p:attrNameLst>
                                      </p:cBhvr>
                                      <p:tavLst>
                                        <p:tav tm="0">
                                          <p:val>
                                            <p:strVal val="#ppt_y"/>
                                          </p:val>
                                        </p:tav>
                                        <p:tav tm="100000">
                                          <p:val>
                                            <p:strVal val="#ppt_y"/>
                                          </p:val>
                                        </p:tav>
                                      </p:tavLst>
                                    </p:anim>
                                  </p:childTnLst>
                                </p:cTn>
                              </p:par>
                              <p:par>
                                <p:cTn id="38" nodeType="withEffect" fill="hold" presetClass="entr" presetID="8" presetSubtype="16">
                                  <p:stCondLst>
                                    <p:cond delay="500"/>
                                  </p:stCondLst>
                                  <p:childTnLst>
                                    <p:set>
                                      <p:cBhvr>
                                        <p:cTn id="39" dur="1" fill="hold">
                                          <p:stCondLst>
                                            <p:cond delay="0"/>
                                          </p:stCondLst>
                                        </p:cTn>
                                        <p:tgtEl>
                                          <p:spTgt spid="419"/>
                                        </p:tgtEl>
                                        <p:attrNameLst>
                                          <p:attrName>style.visibility</p:attrName>
                                        </p:attrNameLst>
                                      </p:cBhvr>
                                      <p:to>
                                        <p:strVal val="visible"/>
                                      </p:to>
                                    </p:set>
                                    <p:animEffect filter="diamond(in)" transition="in">
                                      <p:cBhvr additive="repl">
                                        <p:cTn id="40"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ítulo 1" descr=""/>
          <p:cNvPicPr/>
          <p:nvPr/>
        </p:nvPicPr>
        <p:blipFill>
          <a:blip r:embed="rId1"/>
          <a:stretch/>
        </p:blipFill>
        <p:spPr>
          <a:xfrm>
            <a:off x="195120" y="109440"/>
            <a:ext cx="8498160" cy="1158840"/>
          </a:xfrm>
          <a:prstGeom prst="rect">
            <a:avLst/>
          </a:prstGeom>
          <a:ln w="0">
            <a:noFill/>
          </a:ln>
        </p:spPr>
      </p:pic>
      <p:pic>
        <p:nvPicPr>
          <p:cNvPr id="375" name="Imagem 3" descr="Hermes"/>
          <p:cNvPicPr/>
          <p:nvPr/>
        </p:nvPicPr>
        <p:blipFill>
          <a:blip r:embed="rId2"/>
          <a:stretch/>
        </p:blipFill>
        <p:spPr>
          <a:xfrm>
            <a:off x="1619280" y="1341360"/>
            <a:ext cx="604836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196640"/>
            <a:ext cx="8229600" cy="51116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mprafacil.com</a:t>
            </a:r>
            <a:r>
              <a:rPr b="0" lang="pt-BR" sz="2000" spc="-1" strike="noStrike">
                <a:solidFill>
                  <a:srgbClr val="000000"/>
                </a:solidFill>
                <a:latin typeface="Arial"/>
                <a:ea typeface="Arial"/>
              </a:rPr>
              <a:t> é parte integrante da </a:t>
            </a:r>
            <a:r>
              <a:rPr b="1" lang="pt-BR" sz="2000" spc="-1" strike="noStrike">
                <a:solidFill>
                  <a:srgbClr val="000000"/>
                </a:solidFill>
                <a:latin typeface="Arial"/>
                <a:ea typeface="Arial"/>
              </a:rPr>
              <a:t>Hermes S.A.</a:t>
            </a:r>
            <a:br>
              <a:rPr sz="2000"/>
            </a:br>
            <a:br>
              <a:rPr sz="2000"/>
            </a:br>
            <a:r>
              <a:rPr b="0" lang="pt-BR" sz="2000" spc="-1" strike="noStrike">
                <a:solidFill>
                  <a:srgbClr val="000000"/>
                </a:solidFill>
                <a:latin typeface="Arial"/>
                <a:ea typeface="Arial"/>
              </a:rPr>
              <a:t>A Hermes S.A é a maior empresa de venda a distância da América Latina, em operação desde 1942. Graças a sua sólida estrutura e grande experiência no mercado de varejo oferecemos aos clientes </a:t>
            </a:r>
            <a:r>
              <a:rPr b="1" lang="pt-BR" sz="2000" spc="-1" strike="noStrike">
                <a:solidFill>
                  <a:srgbClr val="000000"/>
                </a:solidFill>
                <a:latin typeface="Arial"/>
                <a:ea typeface="Arial"/>
              </a:rPr>
              <a:t>Comprafacil.com</a:t>
            </a:r>
            <a:r>
              <a:rPr b="0" lang="pt-BR" sz="2000" spc="-1" strike="noStrike">
                <a:solidFill>
                  <a:srgbClr val="000000"/>
                </a:solidFill>
                <a:latin typeface="Arial"/>
                <a:ea typeface="Arial"/>
              </a:rPr>
              <a:t> o máximo em termos de logística, suporte de atendimento e total satisfação ao consumidor.</a:t>
            </a:r>
            <a:br>
              <a:rPr sz="2000"/>
            </a:br>
            <a:br>
              <a:rPr sz="2000"/>
            </a:br>
            <a:r>
              <a:rPr b="0" lang="pt-BR" sz="2000" spc="-1" strike="noStrike">
                <a:solidFill>
                  <a:srgbClr val="000000"/>
                </a:solidFill>
                <a:latin typeface="Arial"/>
                <a:ea typeface="Arial"/>
              </a:rPr>
              <a:t>A Hermes está entre as mais modernas empresas de venda por catálogos no mundo graças ao seu moderno sistema de separação de produtos, etiquetagem, emissão de notas e logística de remessas, formado por 1,5 quilômetros de esteiras e centenas de scanners cobrindo 100% das caixas em operação. Em 1991, a HERMES foi escolhida a "Empresa do Ano" no segmento Comércio Varejista pela Revista Exame. Em 1995, figuramos entre as 15 empresas que mais cresceram no Brasil e em 1997, ocupamos a 104ª posição na lista das "500 Maiores e Melhores" da mesma publicação.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7" name="Título 1" descr=""/>
          <p:cNvPicPr/>
          <p:nvPr/>
        </p:nvPicPr>
        <p:blipFill>
          <a:blip r:embed="rId1"/>
          <a:stretch/>
        </p:blipFill>
        <p:spPr>
          <a:xfrm>
            <a:off x="225360" y="255600"/>
            <a:ext cx="846792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Além de demorar a entregar os produtos comprados por ser uma empresa onde sua matriz é no Rio de Janeiro, a Compra Fácil não disponibiliza atualizações do andamento de sua compra via e-mail, ou seja, você não consegue visualizar se sua compra foi aprovada pela administradora do cartão, além de não ser informado sobre o envio do produto.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Outro grave erro é que quando fazemos a compra, optamos por receber o produto em casa porém  conforme imagem, temos que retirar o produto direto nos correios sendo que não foi feito nenhuma tentativa de entregas anterior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9" name="Título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8229600" cy="5187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m compras anteriores já aconteceu de mandarem produtos com defeito e dentro do prazo de garantia o cliente ter que pagar para enviar o seu produto.  A parte de Trocas e devoluções do site também é muito ruim, pois algumas vezes quando mandamos produtos para troca éramos informados que não havia mais o produto comprado que era para escolhermos outros semelhantes ou pedir o dinheiro de volta.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esta opção de devolução de dinheiro chegou a demorar mais de 1 mês para que a Compra Fácil fizesse o depósito em conta.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1" name="Imagem 3" descr=""/>
          <p:cNvPicPr/>
          <p:nvPr/>
        </p:nvPicPr>
        <p:blipFill>
          <a:blip r:embed="rId1"/>
          <a:stretch/>
        </p:blipFill>
        <p:spPr>
          <a:xfrm>
            <a:off x="1835280" y="18900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468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No ultimo ranking divulgado pelo PROCON nos meses acima, a Compra Fácil se encontra em 2º lugar com cercas de 463 reclamações em um período curto.</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ítulo 1" descr=""/>
          <p:cNvPicPr/>
          <p:nvPr/>
        </p:nvPicPr>
        <p:blipFill>
          <a:blip r:embed="rId1"/>
          <a:stretch/>
        </p:blipFill>
        <p:spPr>
          <a:xfrm>
            <a:off x="-6480" y="268200"/>
            <a:ext cx="91569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Imagem 3" descr="http://www.pontoxp.com/wp-content/uploads/2010/07/SITE-RECLAMACOES-DOS-CONSUMIDORES-CONFIOMETRO.jpg"/>
          <p:cNvPicPr/>
          <p:nvPr/>
        </p:nvPicPr>
        <p:blipFill>
          <a:blip r:embed="rId1"/>
          <a:stretch/>
        </p:blipFill>
        <p:spPr>
          <a:xfrm>
            <a:off x="0" y="-27000"/>
            <a:ext cx="4762440" cy="1308240"/>
          </a:xfrm>
          <a:prstGeom prst="rect">
            <a:avLst/>
          </a:prstGeom>
          <a:ln w="0">
            <a:noFill/>
          </a:ln>
        </p:spPr>
      </p:pic>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anking Site www.cofiometro.com.br</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Confiômetro.com.br em busca pela Compra Fácil podemos visualizar 2180 opiniões, sendo elas 83 elogios e 2097 reclamações e ações no PROCON.</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Das reclamações 130 delas foram finalizadas sem sucesso, ou seja, a Compra Fácil não obteve uma solução para o cliente.</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mesmo site ela se encontra em 1º lugar nas empresas que mais são reclamad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dada pelos consumidores: 2,66</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axa de Soluções 75%</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essoas que voltariam a fazer negócios: 32%</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ítulo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aracterística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BrandsClub é um site de compra coletiva onde várias pessoas fazem compras com mercadorias abaixo do preço de mercado. Nesse site é possível encontrar mercadorias até 90% de desconto.  Este mercado no Brasil chegou forte à partir de 2008, onde hoje em dia ainda está em ascensã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Brand se firmou no mercado brasileiro porém o numero de reclamações cresce a cada mê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8" name="Imagem 3" descr="http://1.bp.blogspot.com/-db5BQySyvXw/T05kCsVKZjI/AAAAAAAAAoI/Fbv7K8uAdcA/s1600/brands%2B001.jpg"/>
          <p:cNvPicPr/>
          <p:nvPr/>
        </p:nvPicPr>
        <p:blipFill>
          <a:blip r:embed="rId1"/>
          <a:stretch/>
        </p:blipFill>
        <p:spPr>
          <a:xfrm>
            <a:off x="3348000" y="115920"/>
            <a:ext cx="4969080" cy="33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0:39:49Z</dcterms:created>
  <dc:creator>Fabio</dc:creator>
  <dc:description/>
  <dc:language>en-US</dc:language>
  <cp:lastModifiedBy>fparra</cp:lastModifiedBy>
  <dcterms:modified xsi:type="dcterms:W3CDTF">2012-03-14T17:58:55Z</dcterms:modified>
  <cp:revision>13</cp:revision>
  <dc:subject/>
  <dc:title>MELHORES E PIORES EMPRESAS DE LOGÍSTICA  </dc:title>
</cp:coreProperties>
</file>